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10D-8504-4F3D-966B-86B79114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7F3-E8EA-4C66-A954-1FA512E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6D7-EC9F-4B2C-9AD9-84DE2129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1E1-BB91-4ED0-AFEF-94FBABA7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E8612-C6CC-4E90-8D90-36AE4EA8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57F4C-F522-4B7F-B3F7-FFDDEE5E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B758E-3D68-445C-88EB-F293009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7E576-8F6E-49D6-B322-452A6B8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2B67D-DC64-4AF3-A0D2-33D47126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A385-47B2-45BA-A01E-5850F577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D304-C257-4D16-B975-AFD2D8B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6AA-8EAD-435C-BC8B-200B1485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67241-9B38-4103-8A49-B90E1C43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E0B3-B104-40B7-821E-1961905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763B-E89F-43C2-A05B-A3EA444D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C7BA2-8A28-4ABA-9019-608FEF24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55452-75A9-4E05-B51B-4BE7DA73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C111-5433-4406-83EC-88E68990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DDC1-7E72-4B07-B3B7-1DF9C68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0874-CA47-456C-B992-B1214D0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0B0E-1C37-4C69-81C7-DEF8D69A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A80C-C1F0-4A39-96D0-B4CBCC58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F95-77BF-4AC3-AB3C-F762AED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4D88-CA53-4ABC-A273-A9D0C67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E75B-B79B-42A9-A753-76844BD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670F-5CDF-41E0-9C87-1FE58D6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5960-8339-43B4-BD77-DAA0126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61DD-7744-498D-A853-C18C97FB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DD98-019F-4FA8-BF91-8878ED42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0F19-9B1D-4F0E-BDBC-FA75339B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6590-B41F-447F-809D-D59B8F74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C8E4-7C18-4FA9-9928-937588A3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F529-B5DE-4F82-85D4-D45F07C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C20-F19C-44F2-9055-4F096C8A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66F8-C23C-4C99-A209-875034B9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40E3-A057-4EFB-9112-3E1EA40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26322-8C1C-420F-A2B7-9D8FD32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BB87-A1CA-4F77-9016-BBB17F95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62A1-A081-4CA3-9DD7-CF27160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FB9C8-D1B6-4A0B-B292-402C2939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B444-DF3F-4CA3-A636-0BE2277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E7222-3EC6-4219-85A5-9CCDDB64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663D-E519-460A-B1E6-07EB87FD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6D22-6060-4AA8-BB3F-A6AA3B5B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02B-69B9-489B-B2F2-BEA95D3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A390-C9B3-4902-8D5B-1D45B1F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71052-1D68-4104-AE43-B421928A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B971-BA54-4FA6-ACE0-6BDEF98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2E05-01C3-437C-88A3-D1856EA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370D5-8438-43B0-9FAB-BC9FA8D4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4206-CDAE-4BCA-A928-CE0BE82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7497-AE0A-469C-A4D1-7244A8A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305D-60EA-4322-A583-0F0157C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2097B-2076-4C94-9523-31035FA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6332-1A51-4FC4-8025-5EA48B34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D3E-C148-42D4-8CC2-17F684B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48F3-6519-49C6-A466-A7395493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7E5D-60D0-4C5D-A924-C731C454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4E4C-94F4-4490-993F-FA0DDE3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93731-990A-4989-AB91-E6C7D62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8A6A-3557-4529-B638-50D65B6D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FE6F-DAD3-4A1B-AFF8-BA45A9B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4086-B985-4DD9-959D-1ADAD2A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82A71-7338-4434-9998-8C19E8E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594D-B411-4C48-A67A-898CFFCF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BF98-37CA-45F3-BB2E-87C804C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8E1-F168-4CA5-AECD-8CD4827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F40D-1C1D-4D30-9375-D7FEEDE7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AD5E-D1E9-45D5-90A6-91C64D7C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41A2-D062-454D-AC2C-974C3EB9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867-22A1-4FF9-AD24-C3D6456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182-857B-42D8-BDAE-F2CDA26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A9BB-C118-4A68-A327-BBA3616A4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76BC-C849-46ED-88AA-FFE50170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17B-8859-40F9-A3A0-26449706473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5DEB-2D2C-4657-9B4B-BE276B6ACB2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705F-8F63-451E-92C6-9811B96D59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633-203B-4FDC-84F4-6D8342318C0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: Kristen Mahon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 una mansion. Es muy  lujosa y nuevo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"/>
          <p:cNvSpPr/>
          <p:nvPr/>
        </p:nvSpPr>
        <p:spPr>
          <a:xfrm>
            <a:off x="3429000" y="41148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19320" y="7621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000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a cocina. Es muy bonita y moder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396252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omedor. Es muy grande y nue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441180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09680" y="41911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S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 una sala. La sala es bonita y incre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419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3762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bano. Es muy moderno y bel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2803680" y="4464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00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un cuarto. Es muy estupend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429000" y="28954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34:26Z</dcterms:created>
  <dc:creator>mahoneykri</dc:creator>
  <dc:description/>
  <dc:language>en-US</dc:language>
  <cp:lastModifiedBy>mahoneykri</cp:lastModifiedBy>
  <dcterms:modified xsi:type="dcterms:W3CDTF">2011-03-31T17:26:35Z</dcterms:modified>
  <cp:revision>3</cp:revision>
  <dc:subject/>
  <dc:title>La Mansion</dc:title>
</cp:coreProperties>
</file>